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A0E0-688D-4C5F-BB66-91CD3D70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B749-F903-4233-8D5B-311EA7B3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710-EFCA-4075-B39D-BA4720C6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4BA7-9844-4800-8F41-ACB5A575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EDE5-9200-4910-BDC5-3831FDFE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6F1F-79C0-4F39-B6BE-6E9995F3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8B53-E773-4D0A-A7DF-C3A01BE2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101D-1A0D-4503-9565-B3E07024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E459-54B6-4F7E-9836-8EC023B7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B06D-7AB8-4204-AFCA-29FE8F60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0619-06F2-4A4F-8DBD-F2A714FC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2A59-F849-49CB-AF2A-C9BEEED7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AC1C-6172-47FD-9C8F-CDEEE733D8A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Practice 1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3 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428760" y="128592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ve the possible tenses and voices of the following, and say whether they are indicative or other mo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571680" y="2187720"/>
            <a:ext cx="38574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στευθ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μψα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λαμβαν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ξε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2714760" y="251316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Passive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2714760" y="334476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ture Active Indicativ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 Active Other mood (ending shows that it is Aorist Active Imper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2714760" y="463716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erfect Active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2714760" y="540216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ture Middle Indicativ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 Middle Other mood (ending shows that is it Future Middle Indic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Practice 2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3 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428760" y="128592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ve the possible tenses and voices of the following, and say whether they are indicative or other mo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571680" y="2187720"/>
            <a:ext cx="38574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ολυθησον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ογισασθ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ηθη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μισησ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3071880" y="25257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ture Passive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3071880" y="334476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ture Middle Indicativ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 Middle Other Mood (ending shows that it is Aorist Middle Infini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3071880" y="4622760"/>
            <a:ext cx="642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Passive Other Mood (ending shows that it is Imper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3071880" y="540216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Active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-142920" y="1285920"/>
            <a:ext cx="5000760" cy="47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ἠνοιγετο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θεραπευθησομ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βαπτισθε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διωκον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ρχον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ποιηθ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125880" y="1839960"/>
            <a:ext cx="557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erfect Middle/Pass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3139920" y="305100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ture Passive Indicativ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3146400" y="366696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Passive Participle Masc. Sing. N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3146400" y="431316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Middle/Pass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3157560" y="4902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Middle/Pass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3157560" y="552600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Pass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Practice 4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-142920" y="1285920"/>
            <a:ext cx="5000760" cy="47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σωθη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γραφ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κληθησε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βληθε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ρρεθ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λημφθησ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3139920" y="183996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Passive Indicativ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3154320" y="244332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Pass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3146400" y="305748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ture Pass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3146400" y="369108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Passive Participle Masculine Nomin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3157560" y="4902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Pass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3143160" y="552456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Pass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Practice 5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84320" y="1214280"/>
            <a:ext cx="414324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λαληθη ὑπο των προφητ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δουλος ἀπολυθεις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ὐχαριστησεν τῳ θε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θεος βλεπεται ὑπο ἀγγελ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Πετρος ἠρχετο εἰς τη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υναγωγ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ιραζομενος ἐγω οὐ πιπτ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ἀποστολοι ἀποσταλησ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4572000" y="198432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said by the proph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4572000" y="252720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the slave was set free he gave thanks to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4572000" y="361944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d is seen by ang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4572000" y="418464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ter was going into the synago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4572000" y="527220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hough I am tempted I do not f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4557600" y="581652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postles will be 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142920" y="1000080"/>
            <a:ext cx="453060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λεψαντες τα πονηρα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αχθεντα ἐφυγ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εινῃ τῃ ἡμερᾳ ὁ θεο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ὀφθησε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aw will be writ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ld woman was carried by h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Jesus was arrested he sai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they called, Lord, Lord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were sa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572000" y="11872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y saw the evil things which had been done they f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4572000" y="228132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that day God will be s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4572000" y="328608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νομος γραφησε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4572000" y="373212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ἡ πρεσβυτερα (γυνη) ἠνεχθη ὑπο των υἱων αὐτ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4572000" y="462924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ρατηθεις ὁ Ἰησους (οὐκ) εἰπεν οὐδ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4572000" y="555480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λησαντες∙ Κυριε, κυριε, ἐσωθησ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ASSIVE DEPON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214200" y="1500120"/>
            <a:ext cx="51436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βουληθημεν βλεψαι τον Ἰησου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εινῃ τῃ ἡμερᾳ φοβηθησεσθε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ει πορευθηναι εἰς το ἱερ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ποκριθητε οὐδε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5000760" y="2471760"/>
            <a:ext cx="30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wished to see Je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5000760" y="31892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that day will you be afrai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5000760" y="3929040"/>
            <a:ext cx="42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necessary to go into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5000760" y="46674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swer nothing (‘give no answer’, ‘say nothing in reply’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5:08:33Z</dcterms:created>
  <dc:creator>Sarah</dc:creator>
  <dc:description/>
  <dc:language>en-US</dc:language>
  <cp:lastModifiedBy>Sarah</cp:lastModifiedBy>
  <dcterms:modified xsi:type="dcterms:W3CDTF">2009-08-09T11:12:27Z</dcterms:modified>
  <cp:revision>28</cp:revision>
  <dc:subject/>
  <dc:title>Slide 1</dc:title>
</cp:coreProperties>
</file>